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45D5B-F29C-4C4D-8827-937ACD803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F0228-8F55-4D06-BD3D-723A1993C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3AA4C-E378-4B55-9CA1-F59CB3AB1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D6BFB-790B-428C-8775-F77249D3C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9CB81-3D5F-4491-B64E-3284F68DA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A9A69-3DE6-4550-886D-BB3D68822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BD6D9-ADCA-488C-A146-C46B1AFDF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C88C0-B520-4BFE-A3D6-5C89E5CC8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466B1-3A7E-4AD8-9691-BFB01E43B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14F89-37A6-4052-80AA-76002E378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A4728-3171-4EAE-9293-40BDAFBC0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74731-AAFE-4124-B091-37B9786DF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F7218-88AE-41C5-8049-4AFA8CB739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0T11:54:09Z</dcterms:created>
  <dc:creator/>
  <dc:description/>
  <dc:language>en-US</dc:language>
  <cp:lastModifiedBy>Alexey Zhilin</cp:lastModifiedBy>
  <dcterms:modified xsi:type="dcterms:W3CDTF">2009-01-26T12:07:37Z</dcterms:modified>
  <cp:revision>7</cp:revision>
  <dc:subject/>
  <dc:title>Slide 1</dc:title>
</cp:coreProperties>
</file>